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223-FBD0-43AF-B1D4-05993B766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833-E588-437C-A08E-6BB1CE6E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3B0-C4F3-4D39-AC57-AA845D782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93C-9CDF-4D26-BA1E-E43F46BC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811D-24DD-4DC9-B338-D1A12E5DC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0BF5-CDEB-4692-8D6A-944748BDC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A47D-2977-44E3-AFC5-146897B99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FC5A-F8F7-4A04-8960-F64B8BC08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95A9-D9B0-4A49-BE0F-D41377EA8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3900-210E-44E7-B2E6-BB692543A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5FB6-2311-4606-B8DE-4A71CE120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CDC9-1745-4078-8602-7144A5F45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CA7D-1BFC-4FC0-AC49-1E1B403DA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128D-ADBB-4531-94C7-C9FAB16AF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D710-AB56-45A2-94FF-A8AE40B48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24FA-D141-44E9-81B3-6FB8AE0BE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2803-5C1F-49C6-ACC7-1EC75BBA0D6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ow Business Activities Change the Accounting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7A3-11F8-4D67-BDF6-2B20265D020D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ING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7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5,00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28" descr="C:\Documents and Settings\mcm08@fuse.net\My Documents\2005 Business Projects\Slides for Century 21 Accounting\Blue\ch01\C21_blue_0102.jpg"/>
          <p:cNvPicPr/>
          <p:nvPr/>
        </p:nvPicPr>
        <p:blipFill>
          <a:blip r:embed="rId1"/>
          <a:stretch/>
        </p:blipFill>
        <p:spPr>
          <a:xfrm>
            <a:off x="917640" y="2819520"/>
            <a:ext cx="7769160" cy="197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30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D37-D3FD-4F4B-AA84-6D3EF2BA3EE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ING C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3. Paid cash for supplies, $275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Documents and Settings\mcm08@fuse.net\My Documents\2005 Business Projects\Slides for Century 21 Accounting\Blue\ch01\C21_blue_0103.jpg"/>
          <p:cNvPicPr/>
          <p:nvPr/>
        </p:nvPicPr>
        <p:blipFill>
          <a:blip r:embed="rId1"/>
          <a:stretch/>
        </p:blipFill>
        <p:spPr>
          <a:xfrm>
            <a:off x="917640" y="2782800"/>
            <a:ext cx="7769160" cy="23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57200" y="57150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4. Paid cash for insurance, $1,2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57200" y="389088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57200" y="443700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C4B0-84D8-4FBB-B1A9-DB63C7822CA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O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0080"/>
            <a:ext cx="7772400" cy="7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ugust 7. Bought supplies on account from Supply Depot, $50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:\Documents and Settings\mcm08@fuse.net\My Documents\2005 Business Projects\Slides for Century 21 Accounting\Blue\ch01\C21_blue_0104.jpg"/>
          <p:cNvPicPr/>
          <p:nvPr/>
        </p:nvPicPr>
        <p:blipFill>
          <a:blip r:embed="rId1"/>
          <a:stretch/>
        </p:blipFill>
        <p:spPr>
          <a:xfrm>
            <a:off x="914400" y="2664000"/>
            <a:ext cx="7769160" cy="2523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5440320"/>
            <a:ext cx="7772400" cy="7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nsaction 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ugust 11. Paid cash on account to Supply Depot, $300.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57200" y="391176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57200" y="4457880"/>
            <a:ext cx="365040" cy="182520"/>
          </a:xfrm>
          <a:custGeom>
            <a:avLst/>
            <a:gdLst>
              <a:gd name="textAreaLeft" fmla="*/ 0 w 365040"/>
              <a:gd name="textAreaRight" fmla="*/ 365400 w 365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e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17B7-C72D-4934-90A3-E8A2A5CF0B7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3:39Z</dcterms:created>
  <dc:creator>M. C. McLaughlin</dc:creator>
  <dc:description/>
  <dc:language>en-US</dc:language>
  <cp:lastModifiedBy>image</cp:lastModifiedBy>
  <dcterms:modified xsi:type="dcterms:W3CDTF">2012-08-30T19:48:37Z</dcterms:modified>
  <cp:revision>13</cp:revision>
  <dc:subject/>
  <dc:title>Lesson 1-1</dc:title>
</cp:coreProperties>
</file>